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BC52-F7B9-4597-9981-EF3A5856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ED1C-5E91-417B-A40C-7583EF69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3BBB-002A-4EDD-938D-70397A99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52E-DC37-4ADE-A8E7-B5FF1B97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9231-D2FC-44B2-8346-5CC522FE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A20C-C20C-4346-96A5-B974324B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5DBB-233D-4188-A3C9-46819BB9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BA0E-97C2-44BE-B2BA-6142FAB2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A888-A0CD-4A05-9E46-2B9C9BEB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A849-CE0B-4163-9C4B-3604AFA8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E18C-3522-492B-BB01-53DEFD0E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7A1C-43C2-42C6-A643-F9B9785E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C287-A77F-4F2D-8BD9-F7C1EECE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B44F-B34E-43AC-A61E-775226EB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07AD-321E-4A28-AF67-B61A1ED2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9F98-7F2B-483C-94AE-9DD669E5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3702-78D7-48C6-B1D6-D8211566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3887-FE8B-4CD2-98FA-22E27D4F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876-186F-4672-928E-167F1E98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48A-C6F9-447D-A266-4F120F6B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5573-A509-4969-B2B5-2B28877B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8E06-BAA0-4654-A8BB-E80214B0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BBAE-99EE-4454-899B-B7A98EB7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3339-95B5-4934-A123-4D97D8DA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41E3-4742-40E0-A1EC-41026BD44F3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BD53-A21F-41FE-8165-749829F88DE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Joshua 13-19</a:t>
            </a:r>
            <a:br>
              <a:rPr sz="5400"/>
            </a:b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e Division of the Land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Quarter 3, Lesson 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es 36-4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52280" y="1371600"/>
            <a:ext cx="1371600" cy="41911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314640"/>
            <a:ext cx="4800600" cy="625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The Remaining Trib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(18:1 to 19:5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Benjamin’s territory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8:1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Simeon’s territory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9:1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Zebulun’s territory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9:1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Issachar’s territory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9:17-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Asher’s territory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9:24-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Naphtali’s territory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9:32-3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Dan’s territory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9:40-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52280" y="1371600"/>
            <a:ext cx="1371600" cy="41911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1960560"/>
            <a:ext cx="4800600" cy="29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The Remaining Trib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(18:1 to 19:5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Joshua’s Inheritance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9:49-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What tribe was Joshua fro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5334120"/>
            <a:ext cx="38862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ahoma"/>
              </a:rPr>
              <a:t>The dividing of the land was complet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523880" y="137160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1371600" y="533520"/>
            <a:ext cx="6448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rthern Most City of D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2971800" y="228600"/>
            <a:ext cx="1200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hilo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219320" y="5257800"/>
            <a:ext cx="4486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in Campgroun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f Tabernacl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457200"/>
            <a:ext cx="2210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Then the whole congregation of the sons of Israel assembled themselves at Shiloh, and set up the tent of meeting there; and the land was subdued before them. (Joshua 18: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304920" y="380880"/>
          <a:ext cx="8610480" cy="6172200"/>
        </p:xfrm>
        <a:graphic>
          <a:graphicData uri="http://schemas.openxmlformats.org/drawingml/2006/table">
            <a:tbl>
              <a:tblPr/>
              <a:tblGrid>
                <a:gridCol w="947520"/>
                <a:gridCol w="3014640"/>
                <a:gridCol w="2581560"/>
                <a:gridCol w="2066760"/>
              </a:tblGrid>
              <a:tr h="914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ritannic"/>
                          <a:ea typeface="Times New Roman"/>
                        </a:rPr>
                        <a:t>The Distribution of the L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troduc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Desdemona"/>
                          <a:ea typeface="Times New Roman"/>
                        </a:rPr>
                        <a:t>Special Allot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ast of the Jord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: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wo &amp; a half Trib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e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Matura MT Script Capitals"/>
                          <a:ea typeface="Times New Roman"/>
                        </a:rPr>
                        <a:t>West of the Jord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uda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cccc"/>
                          </a:solidFill>
                          <a:latin typeface="Desdemona"/>
                          <a:ea typeface="Times New Roman"/>
                        </a:rPr>
                        <a:t>Major Allotments to the 9 ½ Trib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 Sons of Josep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maining 7 Trib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ties of Refu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Desdemona"/>
                          <a:ea typeface="Times New Roman"/>
                        </a:rPr>
                        <a:t>Special Provis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oth Sides of the Jord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: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: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mmary Stat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4267080" y="1295280"/>
            <a:ext cx="0" cy="175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3124080"/>
            <a:ext cx="0" cy="167652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487692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8812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5715000" y="228600"/>
            <a:ext cx="29908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ast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la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amoth-Gilea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eze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95880" y="3124080"/>
            <a:ext cx="2314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est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Kodesh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hechem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ebr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223920"/>
            <a:ext cx="8686800" cy="6634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900000">
            <a:off x="1371600" y="1599840"/>
            <a:ext cx="1523880" cy="3657600"/>
          </a:xfrm>
          <a:prstGeom prst="ellipse">
            <a:avLst/>
          </a:prstGeom>
          <a:gradFill rotWithShape="0">
            <a:gsLst>
              <a:gs pos="0">
                <a:srgbClr val="175e5e">
                  <a:alpha val="0"/>
                </a:srgbClr>
              </a:gs>
              <a:gs pos="100000">
                <a:srgbClr val="33cccc">
                  <a:alpha val="0"/>
                </a:srgbClr>
              </a:gs>
            </a:gsLst>
            <a:lin ang="126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553080" y="1523880"/>
            <a:ext cx="1524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re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f Our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ud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9144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ow C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371600" y="761760"/>
            <a:ext cx="91440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5334120" y="1600200"/>
            <a:ext cx="3324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Divisi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f The Lan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ccording T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ribal Siz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514600" y="2895480"/>
            <a:ext cx="2819520" cy="381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23880" y="1295280"/>
            <a:ext cx="914400" cy="3733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-66960"/>
            <a:ext cx="4495680" cy="70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8040" indent="-338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Garamond"/>
              </a:rPr>
              <a:t>Division of the 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(13:7 to 24:3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Unconquered parts of the land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13:1-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Possession of the land East of Jordan 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13:7-33  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0066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Total territory East of Jordan 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13:7-14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0066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Portion divided to Reuben 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13:15-23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0066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Portion divided to Gad 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13:24-28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buClr>
                <a:srgbClr val="0066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Portion divided to the half tribe of Manasseh 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13:29-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43400" y="512280"/>
            <a:ext cx="4800600" cy="582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Distribution Beg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(14:1 to 14:15)  </a:t>
            </a: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Eleazar the priest, Joshua and the elders distributed the land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4: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Land divided by lot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4: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Levites given no territory, only cities to live in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4:3-5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See Joshua 18: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Hebron given to Caleb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4:6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(Notice the timeline in 14: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523880"/>
            <a:ext cx="1371600" cy="41911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1295280" y="4114800"/>
            <a:ext cx="289584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52280" y="1752480"/>
            <a:ext cx="1371600" cy="41911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943560"/>
            <a:ext cx="4800600" cy="436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Judah’s Terri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(14:1 to 15:63)  </a:t>
            </a: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Portion to Judah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5:1 - 15: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Caleb conquers Hebron.  How?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5:13-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Cities of Judah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5:21-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Judah could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drive out the Jebusites from Jerusalem.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5: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2280" y="1371600"/>
            <a:ext cx="1371600" cy="41911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893880"/>
            <a:ext cx="4800600" cy="509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Joseph’s Terri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(16:1 to 17:18)  </a:t>
            </a: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Inheritance of Manasseh and Ephraim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6:1 to 17: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Portion to Ephraim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6:5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Ephraim did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 drive out the Canaanites from Gezer, but they paid taxes to the Ephraimites.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6:10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2280" y="1371600"/>
            <a:ext cx="1371600" cy="41911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-20880"/>
            <a:ext cx="4800600" cy="692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Joseph’s Terri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(16:1 to 17:18)  </a:t>
            </a: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Portion to Half of Manasseh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7:1-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Daughters of Zelophehad receives inheritance along with Manasseh’s sons.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7:1-11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See Num. 27:1-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Tribes of Manasseh could 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Times New Roman"/>
              </a:rPr>
              <a:t>not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drive out the Canaanites but received taxes from them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7:12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Children of Joseph complain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7:14-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52280" y="1371600"/>
            <a:ext cx="1371600" cy="41911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345240"/>
            <a:ext cx="4800600" cy="619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The Remaining Trib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(18:1 to 19:5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Israel assembled at Shiloh and set up the tabernacle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8: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Seven tribes without land.  Why?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8: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Twenty-one men, three from each tribe, survey and describe the land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8:3-9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Land divided by lot among the remaining seven tribes 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18:10 to 19: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7:10:49Z</dcterms:created>
  <dc:creator>Terry W. Benton</dc:creator>
  <dc:description/>
  <dc:language>en-US</dc:language>
  <cp:lastModifiedBy>Frank D Vines</cp:lastModifiedBy>
  <dcterms:modified xsi:type="dcterms:W3CDTF">2005-07-07T22:18:37Z</dcterms:modified>
  <cp:revision>24</cp:revision>
  <dc:subject/>
  <dc:title>Joshua 13-19 </dc:title>
</cp:coreProperties>
</file>